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17D-2A88-46CF-9C58-93C35B29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ED1-D571-48C8-AA40-CB9529AD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B9E-B32E-40E6-9AD4-59790E14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5E5-DCBC-4147-B195-DD4DF3D6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35C-B0C0-4EFA-859F-6C757EE2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E17-90A7-41CB-9F5F-1C920A2D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527-31C5-47BA-96E3-870F07FC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FB2-B636-416E-B324-062C9E68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63A-0131-48A2-BAFF-DFB98F68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6B4-1228-4EBD-A5A0-0FA40371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ED7-F33D-4F3C-AA83-A3A748A0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19A-EC66-4097-BE0E-9960902B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2EB7-CCDD-4A21-AC2E-94BCAB577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6240" y="204840"/>
            <a:ext cx="641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 of Wizards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202248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760" y="22096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9360" y="1654200"/>
            <a:ext cx="73476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1841400"/>
            <a:ext cx="358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5840" y="202248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01600" y="220968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73840" y="202716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59600" y="221292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76200" y="1654200"/>
            <a:ext cx="7318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61960" y="184140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39800" y="202248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7360" y="22096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01960" y="165420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89160" y="184140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7000" y="202248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52760" y="22096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27360" y="165420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3120" y="1841400"/>
            <a:ext cx="358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0960" y="202248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8160" y="22096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52760" y="165420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39960" y="184140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17800" y="202248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3560" y="2209680"/>
            <a:ext cx="3589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78160" y="165420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65720" y="184140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45000" y="202248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30760" y="220968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05360" y="165420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91120" y="184140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68960" y="202248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56160" y="22096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0760" y="1654200"/>
            <a:ext cx="7336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18320" y="1841400"/>
            <a:ext cx="3553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1240" y="8232840"/>
            <a:ext cx="5437080" cy="631800"/>
            <a:chOff x="741240" y="8232840"/>
            <a:chExt cx="5437080" cy="631800"/>
          </a:xfrm>
        </p:grpSpPr>
        <p:sp>
          <p:nvSpPr>
            <p:cNvPr id="77" name=""/>
            <p:cNvSpPr/>
            <p:nvPr/>
          </p:nvSpPr>
          <p:spPr>
            <a:xfrm>
              <a:off x="744480" y="8232840"/>
              <a:ext cx="625320" cy="293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c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80960" y="8232840"/>
              <a:ext cx="625680" cy="293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t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17440" y="8232840"/>
              <a:ext cx="625680" cy="295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s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54280" y="8232840"/>
              <a:ext cx="625320" cy="295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0760" y="8232840"/>
              <a:ext cx="625320" cy="293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r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7240" y="8232840"/>
              <a:ext cx="625680" cy="293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i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64080" y="8232840"/>
              <a:ext cx="625320" cy="2952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ung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1240" y="8526600"/>
              <a:ext cx="625320" cy="2952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nt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77720" y="8526600"/>
              <a:ext cx="625680" cy="293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4560" y="8526600"/>
              <a:ext cx="625320" cy="293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lai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51040" y="8526600"/>
              <a:ext cx="625320" cy="295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wa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87520" y="8526600"/>
              <a:ext cx="625680" cy="2952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nd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4360" y="8526600"/>
              <a:ext cx="625320" cy="2934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ndw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60840" y="8526600"/>
              <a:ext cx="625320" cy="2934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olc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49880" y="8240760"/>
              <a:ext cx="6253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nkw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0160" y="8559720"/>
              <a:ext cx="938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nderwor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st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89000" y="129240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760" y="14796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5840" y="129240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01600" y="147960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3840" y="129708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9600" y="14828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39800" y="129240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7360" y="14796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7000" y="129240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2760" y="14796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90960" y="129240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8160" y="14796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17800" y="129240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03560" y="1479600"/>
            <a:ext cx="3589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129240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30760" y="147960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68960" y="129240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56160" y="14796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440" y="275760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29448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00" y="2389320"/>
            <a:ext cx="7351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6560" y="257652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7640" y="275760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03400" y="294480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75280" y="276228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61040" y="29480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8000" y="2389320"/>
            <a:ext cx="73188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63760" y="257652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41600" y="275760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9448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03400" y="2389320"/>
            <a:ext cx="7333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257652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8440" y="275760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4200" y="29448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28800" y="2389320"/>
            <a:ext cx="7351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14560" y="257652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92400" y="275760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9600" y="2944800"/>
            <a:ext cx="3574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54560" y="2389320"/>
            <a:ext cx="7333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1760" y="257652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19600" y="275760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05360" y="2944800"/>
            <a:ext cx="35856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9960" y="2389320"/>
            <a:ext cx="7351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67160" y="257652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46440" y="275760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32200" y="294480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06800" y="2389320"/>
            <a:ext cx="73368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92560" y="257652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70400" y="275760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57960" y="29448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2560" y="2389320"/>
            <a:ext cx="7333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19760" y="257652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440" y="349416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6200" y="368136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0800" y="3125880"/>
            <a:ext cx="7351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6560" y="331308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7640" y="349416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3400" y="3681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75280" y="349884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61040" y="368460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8000" y="3125880"/>
            <a:ext cx="73188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63760" y="33130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41600" y="349416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68136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03400" y="3125880"/>
            <a:ext cx="7333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90600" y="33130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8440" y="349416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368136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28800" y="3125880"/>
            <a:ext cx="7351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4560" y="331308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92400" y="349416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9600" y="3681360"/>
            <a:ext cx="3574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54560" y="3125880"/>
            <a:ext cx="7333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41760" y="33130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19600" y="349416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05360" y="3681360"/>
            <a:ext cx="35856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79960" y="3125880"/>
            <a:ext cx="7351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67160" y="331308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6440" y="349416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32200" y="3681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06800" y="3125880"/>
            <a:ext cx="73368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92560" y="331308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70400" y="349416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57960" y="368136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2560" y="3125880"/>
            <a:ext cx="7333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19760" y="33130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440" y="423072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6200" y="441792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800" y="386244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560" y="404964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7640" y="423072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03400" y="441792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23540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61040" y="442116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8000" y="3862440"/>
            <a:ext cx="7318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63760" y="40496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1600" y="423072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441792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03400" y="386244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90600" y="40496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8440" y="423072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54200" y="441792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28800" y="386244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4560" y="404964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92400" y="423072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9600" y="4417920"/>
            <a:ext cx="3574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54560" y="386244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41760" y="40496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19600" y="423072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05360" y="4417920"/>
            <a:ext cx="35856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79960" y="386244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67160" y="404964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46440" y="423072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32200" y="441792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06800" y="3862440"/>
            <a:ext cx="7336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92560" y="404964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70400" y="423072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57960" y="441792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2560" y="386244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19760" y="40496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440" y="496728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6200" y="51544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0800" y="459900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6560" y="4786200"/>
            <a:ext cx="3589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7640" y="496728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03400" y="515448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75280" y="497196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61040" y="515772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8000" y="4599000"/>
            <a:ext cx="7318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63760" y="478620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1600" y="496728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51544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03400" y="459900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90600" y="478620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8440" y="496728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54200" y="51544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28800" y="459900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14560" y="4786200"/>
            <a:ext cx="3589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92400" y="496728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9600" y="5154480"/>
            <a:ext cx="3574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54560" y="459900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41760" y="478620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19600" y="496728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05360" y="5154480"/>
            <a:ext cx="35856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79960" y="459900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67160" y="4786200"/>
            <a:ext cx="3571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46440" y="496728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32200" y="515448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06800" y="4599000"/>
            <a:ext cx="7336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92560" y="4786200"/>
            <a:ext cx="3589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70400" y="496728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57960" y="51544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2560" y="459900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9760" y="478620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440" y="570384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6200" y="589104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0800" y="533556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6560" y="5522760"/>
            <a:ext cx="3589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7640" y="570384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03400" y="589104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75280" y="570852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61040" y="58942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78000" y="5335560"/>
            <a:ext cx="7318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63760" y="552276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41600" y="570384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589104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03400" y="533556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90600" y="552276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68440" y="570384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4200" y="589104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28800" y="533556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14560" y="5522760"/>
            <a:ext cx="3589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92400" y="570384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9600" y="5891040"/>
            <a:ext cx="3574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54560" y="533556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41760" y="552276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19600" y="570384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05360" y="5891040"/>
            <a:ext cx="35856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9960" y="533556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67160" y="5522760"/>
            <a:ext cx="3571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46440" y="570384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32200" y="589104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06800" y="5335560"/>
            <a:ext cx="7336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92560" y="5522760"/>
            <a:ext cx="3589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70400" y="570384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57960" y="589104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32560" y="533556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9760" y="552276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440" y="6440400"/>
            <a:ext cx="7333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6200" y="662796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0800" y="607212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6560" y="625968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17640" y="644040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03400" y="6627960"/>
            <a:ext cx="35568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75280" y="644508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61040" y="663084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78000" y="6072120"/>
            <a:ext cx="7318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63760" y="62596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41600" y="6440400"/>
            <a:ext cx="73476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662796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03400" y="607212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90600" y="62596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68440" y="6440400"/>
            <a:ext cx="7336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54200" y="662796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28800" y="607212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625968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92400" y="6440400"/>
            <a:ext cx="7351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9600" y="6627960"/>
            <a:ext cx="35748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54560" y="607212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41760" y="62596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19600" y="6440400"/>
            <a:ext cx="7333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05360" y="6627960"/>
            <a:ext cx="35856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79960" y="607212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67160" y="625968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46440" y="644040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32200" y="6627960"/>
            <a:ext cx="35568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06800" y="6072120"/>
            <a:ext cx="7336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92560" y="625968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70400" y="6440400"/>
            <a:ext cx="7351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57960" y="662796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32560" y="607212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19760" y="62596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440" y="7176960"/>
            <a:ext cx="7333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6200" y="736452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0800" y="680868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6560" y="699624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7640" y="717696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03400" y="7364520"/>
            <a:ext cx="35568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75280" y="718200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61040" y="736776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78000" y="6808680"/>
            <a:ext cx="7318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63760" y="69962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41600" y="7176960"/>
            <a:ext cx="73476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736452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03400" y="680868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90600" y="69962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68440" y="7176960"/>
            <a:ext cx="7336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4200" y="736452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28800" y="680868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14560" y="699624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92400" y="7176960"/>
            <a:ext cx="7351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9600" y="7364520"/>
            <a:ext cx="35748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54560" y="680868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41760" y="69962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19600" y="7176960"/>
            <a:ext cx="7333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05360" y="7364520"/>
            <a:ext cx="35856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79960" y="680868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67160" y="699624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46440" y="717696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32200" y="7364520"/>
            <a:ext cx="35568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06800" y="6808680"/>
            <a:ext cx="7336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92560" y="699624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70400" y="7176960"/>
            <a:ext cx="7351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57960" y="736452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2560" y="680868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19760" y="69962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603440" y="642960"/>
            <a:ext cx="3367080" cy="4414680"/>
            <a:chOff x="1603440" y="642960"/>
            <a:chExt cx="3367080" cy="4414680"/>
          </a:xfrm>
        </p:grpSpPr>
        <p:grpSp>
          <p:nvGrpSpPr>
            <p:cNvPr id="350" name=""/>
            <p:cNvGrpSpPr/>
            <p:nvPr/>
          </p:nvGrpSpPr>
          <p:grpSpPr>
            <a:xfrm>
              <a:off x="1603440" y="642960"/>
              <a:ext cx="625680" cy="4414680"/>
              <a:chOff x="1603440" y="642960"/>
              <a:chExt cx="625680" cy="4414680"/>
            </a:xfrm>
          </p:grpSpPr>
          <p:sp>
            <p:nvSpPr>
              <p:cNvPr id="351" name=""/>
              <p:cNvSpPr/>
              <p:nvPr/>
            </p:nvSpPr>
            <p:spPr>
              <a:xfrm>
                <a:off x="1603440" y="642960"/>
                <a:ext cx="625680" cy="293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rct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03440" y="2997000"/>
                <a:ext cx="625680" cy="2937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tr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03440" y="936720"/>
                <a:ext cx="625680" cy="295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e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3440" y="3290760"/>
                <a:ext cx="625680" cy="295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r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440" y="1231920"/>
                <a:ext cx="625680" cy="2937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03440" y="3585960"/>
                <a:ext cx="625680" cy="2937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il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03440" y="1525680"/>
                <a:ext cx="625680" cy="2952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ung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603440" y="3879720"/>
                <a:ext cx="625680" cy="2952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nt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603440" y="1820880"/>
                <a:ext cx="625680" cy="2937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ce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03440" y="4174920"/>
                <a:ext cx="625680" cy="2937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ai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03440" y="2114640"/>
                <a:ext cx="625680" cy="29520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wam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03440" y="4468680"/>
                <a:ext cx="625680" cy="29520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und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603440" y="2409840"/>
                <a:ext cx="625680" cy="2937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dwl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03440" y="4763880"/>
                <a:ext cx="625680" cy="2937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Volca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603440" y="2705040"/>
                <a:ext cx="625680" cy="29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kw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2225880" y="64296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ght Turquoi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5880" y="299700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5880" y="936720"/>
              <a:ext cx="13669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25880" y="3290760"/>
              <a:ext cx="13669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25880" y="123192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right Gr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25880" y="358596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25880" y="1525680"/>
              <a:ext cx="13669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rk 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25880" y="3879720"/>
              <a:ext cx="13669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rk 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25880" y="182088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urquoi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25880" y="417492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o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25880" y="2114640"/>
              <a:ext cx="13669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25880" y="4468680"/>
              <a:ext cx="13669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5% Gr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25880" y="240984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rk 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25880" y="476388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r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25880" y="270504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03960" y="64296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shed Horizo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03960" y="299700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utlined Diam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03960" y="936720"/>
              <a:ext cx="1366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mall Confet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03960" y="3290760"/>
              <a:ext cx="1366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h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03960" y="123192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03960" y="358596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03960" y="1525680"/>
              <a:ext cx="1366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iv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03960" y="3879720"/>
              <a:ext cx="1366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igz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03960" y="182088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03960" y="417492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shed Vert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3960" y="2114640"/>
              <a:ext cx="1366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shed Horizo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3960" y="4468680"/>
              <a:ext cx="1366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03960" y="240984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shed Up Diag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3960" y="476388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rge Confet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03960" y="270504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9T00:44:26Z</dcterms:created>
  <dc:creator>NUR0O</dc:creator>
  <dc:description/>
  <dc:language>en-US</dc:language>
  <cp:lastModifiedBy>Ronny A. Olson</cp:lastModifiedBy>
  <cp:lastPrinted>1999-05-05T17:30:45Z</cp:lastPrinted>
  <dcterms:modified xsi:type="dcterms:W3CDTF">1999-06-02T02:38:30Z</dcterms:modified>
  <cp:revision>23</cp:revision>
  <dc:subject/>
  <dc:title>No Slide Title</dc:title>
</cp:coreProperties>
</file>